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29.jpeg" ContentType="image/jpeg"/>
  <Override PartName="/ppt/media/image33.jpeg" ContentType="image/jpeg"/>
  <Override PartName="/ppt/media/image50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51.png" ContentType="image/png"/>
  <Override PartName="/ppt/media/image37.jpeg" ContentType="image/jpeg"/>
  <Override PartName="/ppt/media/image30.png" ContentType="image/png"/>
  <Override PartName="/ppt/media/image10.png" ContentType="image/png"/>
  <Override PartName="/ppt/media/image35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6.png" ContentType="image/png"/>
  <Override PartName="/ppt/media/image5.png" ContentType="image/png"/>
  <Override PartName="/ppt/media/image4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dt" idx="13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ftr" idx="14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 type="sldNum" idx="15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F23362D-14E9-47F4-840B-A97911DDD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5855-6113-45A2-B0CB-B287194FC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8B02-4A03-40C9-800E-18D513F3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5FEF-1A4F-4F72-89A6-E272CDB5A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317A-0F55-425D-BF56-BB074F6CA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F084-BADE-4A38-89BF-8471F2870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F51E5-4CA7-4F43-A2F6-6A4765C5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93ED5-EFA2-4400-9C26-21BBB958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3B338-D0D4-4E88-9BCF-BEA42763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5CD6-B261-43BC-8534-8E263BDF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0E376-CFFB-47FD-9C56-3185A7FA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244D-9726-48E4-A3CC-144BFE0B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9A3F-7DEA-461B-97B3-615D43CA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E7FE-70D7-4C76-869B-1C19BAA8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7E21-9722-4867-BB87-C8B06587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F127-9F3A-43F4-9909-D6316018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1D31-7D4A-4F6B-9687-C96BBC23F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6A4DC-536F-4C88-B9C5-C78A278B0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C1DFC-C4DD-487F-BDF6-9CB0B09EF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49746-4E59-4860-97D5-D060AF94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89C68-16B6-4E8F-B31A-C5816049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B00F5-47CB-4F43-A91B-5D5ED9B7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AE005-E6BF-4EB1-B478-FA3D69A2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7763-FE9F-4062-9C01-F8D3525D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2A792-04CE-479F-9993-F0513C49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409A9-A265-492B-B6FF-25362AB9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1CFBC-C0B3-478C-A050-F74C3A9F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A770C-1240-47A8-B6A1-E6D4FAE1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C5064-FA57-48AB-9C1A-FC3BA8FC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3A997-D2CD-44F9-9F54-F6AE3A91A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C7339-5076-44AE-BD59-BA82DBB7E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C57D2-05F9-4BAF-A74B-C732EB853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DB47F-E910-4711-9C87-DAA32417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00E27-5F17-4428-AA3B-D0004D431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4D95-F6A3-4783-9C45-CB7EF1DD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3946B-EA2C-4E0A-B33D-9093AE30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28BA7-AE6D-4E13-A152-10A29FE5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D3F10-3118-40F1-9638-09693B11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2BB50-F614-4EB7-9E9F-648DA168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96007-9ACE-43E1-BE77-89C1BA54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F7A8B-82A0-410F-9B92-7AF8C535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6ED48-5733-4640-8B82-1C82A10D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451B5-FA17-4708-BFCB-457883B74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968D1-03D5-46A7-8A53-248C15A8C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D9E3-B84B-4CC4-85BA-31186849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3A55-2B34-45E4-8457-866FC719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D3D2-771D-45E6-87CA-4F573FC7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86FC-600B-46A9-9965-DC7F8963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3CBD-9446-49C5-95B0-76593338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4865337-BBEC-4076-A2FF-4B2F94E4A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00807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1160" y="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160640" y="476280"/>
            <a:ext cx="49590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Forecasting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4680"/>
            <a:ext cx="100807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26272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7F7F20-D628-40D6-A757-4BD3CF7F67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1160" y="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166760" y="43164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Forecasting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4680"/>
            <a:ext cx="100807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26272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7226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0BA207-4AB4-49C5-B40A-D4929D58F4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160" y="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66760" y="43164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Forecasting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4680"/>
            <a:ext cx="100807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26272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226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A6781F-92B3-4490-810B-C5C40E40CC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1160" y="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166760" y="43164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Forecasting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0.jpeg"/><Relationship Id="rId6" Type="http://schemas.openxmlformats.org/officeDocument/2006/relationships/image" Target="../media/image22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60000" y="1331640"/>
            <a:ext cx="9433080" cy="28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On the North Pacific reduced skill in near-term climate predictions of sea surface temper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0" y="4787640"/>
            <a:ext cx="1008072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ginie Gu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With the collaboration of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rancisco Doblas-Reyes, Fabian Lienert, Hui Du, Yves Souff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1"/>
          <a:srcRect l="0" t="0" r="0" b="28585"/>
          <a:stretch/>
        </p:blipFill>
        <p:spPr>
          <a:xfrm>
            <a:off x="6769080" y="4572000"/>
            <a:ext cx="3311640" cy="259092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2"/>
          <a:srcRect l="0" t="0" r="0" b="28585"/>
          <a:stretch/>
        </p:blipFill>
        <p:spPr>
          <a:xfrm>
            <a:off x="3529080" y="4573440"/>
            <a:ext cx="3311280" cy="259092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3"/>
          <a:srcRect l="0" t="0" r="0" b="28585"/>
          <a:stretch/>
        </p:blipFill>
        <p:spPr>
          <a:xfrm>
            <a:off x="216000" y="4573440"/>
            <a:ext cx="3311280" cy="259092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4"/>
          <a:srcRect l="0" t="0" r="0" b="28585"/>
          <a:stretch/>
        </p:blipFill>
        <p:spPr>
          <a:xfrm>
            <a:off x="6769080" y="2125800"/>
            <a:ext cx="3311640" cy="259056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5"/>
          <a:srcRect l="0" t="0" r="0" b="28585"/>
          <a:stretch/>
        </p:blipFill>
        <p:spPr>
          <a:xfrm>
            <a:off x="3529080" y="2125800"/>
            <a:ext cx="3311280" cy="259056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6"/>
          <a:srcRect l="0" t="0" r="0" b="28585"/>
          <a:stretch/>
        </p:blipFill>
        <p:spPr>
          <a:xfrm>
            <a:off x="216000" y="2125800"/>
            <a:ext cx="3311280" cy="259056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287280" y="2249640"/>
            <a:ext cx="316872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ERFA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527280" y="2249640"/>
            <a:ext cx="316872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K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840360" y="2249640"/>
            <a:ext cx="309564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FM-GEO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16000" y="4716360"/>
            <a:ext cx="324000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CMW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527280" y="4716360"/>
            <a:ext cx="316872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PreS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912000" y="4770360"/>
            <a:ext cx="302400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C-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884160"/>
            <a:ext cx="1008072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2m atmospheric temperature sk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16000" y="1619280"/>
            <a:ext cx="9720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rrelation modelled and ERA40 T2M. Leadtimes : 2-5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7"/>
          <a:srcRect l="0" t="77355" r="0" b="15285"/>
          <a:stretch/>
        </p:blipFill>
        <p:spPr>
          <a:xfrm>
            <a:off x="2282760" y="7164360"/>
            <a:ext cx="5997600" cy="360360"/>
          </a:xfrm>
          <a:prstGeom prst="rect">
            <a:avLst/>
          </a:prstGeom>
          <a:ln w="0">
            <a:noFill/>
          </a:ln>
        </p:spPr>
      </p:pic>
      <p:grpSp>
        <p:nvGrpSpPr>
          <p:cNvPr id="516" name=""/>
          <p:cNvGrpSpPr/>
          <p:nvPr/>
        </p:nvGrpSpPr>
        <p:grpSpPr>
          <a:xfrm>
            <a:off x="1584360" y="3059280"/>
            <a:ext cx="7270560" cy="2881080"/>
            <a:chOff x="1584360" y="3059280"/>
            <a:chExt cx="7270560" cy="2881080"/>
          </a:xfrm>
        </p:grpSpPr>
        <p:sp>
          <p:nvSpPr>
            <p:cNvPr id="517" name=""/>
            <p:cNvSpPr/>
            <p:nvPr/>
          </p:nvSpPr>
          <p:spPr>
            <a:xfrm>
              <a:off x="1584360" y="3060720"/>
              <a:ext cx="719280" cy="43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897440" y="3059280"/>
              <a:ext cx="719280" cy="43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136000" y="3059280"/>
              <a:ext cx="718920" cy="43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584360" y="5508720"/>
              <a:ext cx="719280" cy="43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897440" y="5508720"/>
              <a:ext cx="719280" cy="43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136000" y="5508720"/>
              <a:ext cx="718920" cy="43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1"/>
          <a:srcRect l="0" t="0" r="0" b="28585"/>
          <a:stretch/>
        </p:blipFill>
        <p:spPr>
          <a:xfrm>
            <a:off x="6769080" y="4572000"/>
            <a:ext cx="3311640" cy="259236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2"/>
          <a:srcRect l="0" t="0" r="0" b="28585"/>
          <a:stretch/>
        </p:blipFill>
        <p:spPr>
          <a:xfrm>
            <a:off x="3568680" y="4572000"/>
            <a:ext cx="3271680" cy="259092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3"/>
          <a:srcRect l="0" t="0" r="0" b="28585"/>
          <a:stretch/>
        </p:blipFill>
        <p:spPr>
          <a:xfrm>
            <a:off x="216000" y="4572000"/>
            <a:ext cx="3309840" cy="259236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4"/>
          <a:srcRect l="0" t="0" r="0" b="28585"/>
          <a:stretch/>
        </p:blipFill>
        <p:spPr>
          <a:xfrm>
            <a:off x="3562200" y="2104920"/>
            <a:ext cx="3275280" cy="263376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5"/>
          <a:srcRect l="0" t="0" r="0" b="28585"/>
          <a:stretch/>
        </p:blipFill>
        <p:spPr>
          <a:xfrm>
            <a:off x="6769080" y="2124000"/>
            <a:ext cx="3311640" cy="259092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6"/>
          <a:srcRect l="0" t="0" r="0" b="28585"/>
          <a:stretch/>
        </p:blipFill>
        <p:spPr>
          <a:xfrm>
            <a:off x="216000" y="2124000"/>
            <a:ext cx="3311280" cy="259236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287280" y="2249640"/>
            <a:ext cx="316872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ERFA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527280" y="2249640"/>
            <a:ext cx="316872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K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840360" y="2249640"/>
            <a:ext cx="309564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FM-GEO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16000" y="4716360"/>
            <a:ext cx="324000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CMW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27280" y="4716360"/>
            <a:ext cx="316872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PreS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912000" y="4770360"/>
            <a:ext cx="302400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C-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16000" y="1619280"/>
            <a:ext cx="9720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rrelation modelled and ERSST SST. Leadtimes : 2-5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7"/>
          <a:srcRect l="0" t="77355" r="0" b="15285"/>
          <a:stretch/>
        </p:blipFill>
        <p:spPr>
          <a:xfrm>
            <a:off x="2282760" y="7164360"/>
            <a:ext cx="5997600" cy="36036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0" y="884160"/>
            <a:ext cx="1008072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Sea Surface Temperature sk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584360" y="3059280"/>
            <a:ext cx="7270560" cy="2881080"/>
            <a:chOff x="1584360" y="3059280"/>
            <a:chExt cx="7270560" cy="2881080"/>
          </a:xfrm>
        </p:grpSpPr>
        <p:sp>
          <p:nvSpPr>
            <p:cNvPr id="539" name=""/>
            <p:cNvSpPr/>
            <p:nvPr/>
          </p:nvSpPr>
          <p:spPr>
            <a:xfrm>
              <a:off x="1584360" y="3060720"/>
              <a:ext cx="719280" cy="43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897440" y="3059280"/>
              <a:ext cx="719280" cy="43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136000" y="3059280"/>
              <a:ext cx="718920" cy="43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584360" y="5508720"/>
              <a:ext cx="719280" cy="43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897440" y="5508720"/>
              <a:ext cx="719280" cy="43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136000" y="5508720"/>
              <a:ext cx="718920" cy="43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1368360" y="1622520"/>
            <a:ext cx="7543800" cy="582912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216000" y="1795320"/>
            <a:ext cx="9720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rrelation between multi-model ensemble-mean and ERSST S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0" y="884160"/>
            <a:ext cx="1008072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Sea Surface Temperature sk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464000" y="3203640"/>
            <a:ext cx="1655640" cy="647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" descr=""/>
          <p:cNvPicPr/>
          <p:nvPr/>
        </p:nvPicPr>
        <p:blipFill>
          <a:blip r:embed="rId1"/>
          <a:srcRect l="1685" t="0" r="0" b="2382"/>
          <a:stretch/>
        </p:blipFill>
        <p:spPr>
          <a:xfrm>
            <a:off x="6707160" y="5151600"/>
            <a:ext cx="3373560" cy="240336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2"/>
          <a:srcRect l="1685" t="0" r="0" b="2382"/>
          <a:stretch/>
        </p:blipFill>
        <p:spPr>
          <a:xfrm>
            <a:off x="3395520" y="5149800"/>
            <a:ext cx="3373560" cy="240516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3"/>
          <a:srcRect l="0" t="0" r="0" b="2382"/>
          <a:stretch/>
        </p:blipFill>
        <p:spPr>
          <a:xfrm>
            <a:off x="69840" y="5148360"/>
            <a:ext cx="3456000" cy="235728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4"/>
          <a:srcRect l="0" t="0" r="1685" b="2382"/>
          <a:stretch/>
        </p:blipFill>
        <p:spPr>
          <a:xfrm>
            <a:off x="6624720" y="2484360"/>
            <a:ext cx="3397320" cy="238608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5"/>
          <a:srcRect l="0" t="0" r="1685" b="2382"/>
          <a:stretch/>
        </p:blipFill>
        <p:spPr>
          <a:xfrm>
            <a:off x="3378240" y="2484360"/>
            <a:ext cx="3390840" cy="237960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6"/>
          <a:srcRect l="0" t="0" r="1685" b="0"/>
          <a:stretch/>
        </p:blipFill>
        <p:spPr>
          <a:xfrm>
            <a:off x="0" y="2484360"/>
            <a:ext cx="3462480" cy="249228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719280" y="2249640"/>
            <a:ext cx="223200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ERFA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032360" y="2249640"/>
            <a:ext cx="223200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K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272360" y="2249640"/>
            <a:ext cx="223200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FM-GEO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19280" y="4915080"/>
            <a:ext cx="223200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CMW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960720" y="4915080"/>
            <a:ext cx="223200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PreS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345440" y="4915080"/>
            <a:ext cx="2232000" cy="37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C-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0" y="884160"/>
            <a:ext cx="1008072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Which major events are missed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16000" y="1619280"/>
            <a:ext cx="97200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ea Surface Temperature anomalies (155°E-235°E, 10°N-45°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287280" y="3132000"/>
            <a:ext cx="7345440" cy="3672000"/>
            <a:chOff x="287280" y="3132000"/>
            <a:chExt cx="7345440" cy="3672000"/>
          </a:xfrm>
        </p:grpSpPr>
        <p:sp>
          <p:nvSpPr>
            <p:cNvPr id="564" name=""/>
            <p:cNvSpPr/>
            <p:nvPr/>
          </p:nvSpPr>
          <p:spPr>
            <a:xfrm>
              <a:off x="287280" y="3132000"/>
              <a:ext cx="720720" cy="1008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672000" y="3132000"/>
              <a:ext cx="720720" cy="1008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912000" y="3132000"/>
              <a:ext cx="720720" cy="1008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8920" y="5796000"/>
              <a:ext cx="720720" cy="1008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600360" y="5796000"/>
              <a:ext cx="720720" cy="1008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912000" y="5796000"/>
              <a:ext cx="720720" cy="1008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906768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44360" y="2266920"/>
            <a:ext cx="9936360" cy="51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inks with well-known variability mod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Mechanism explaining the 1963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Mechanism explaining the 1968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ossible cause for the failure of forecasti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906768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44360" y="2266920"/>
            <a:ext cx="9936360" cy="51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cc3300"/>
                </a:solidFill>
                <a:latin typeface="Arial"/>
              </a:rPr>
              <a:t>Links with well-known variability mod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Mechanism explaining the 1963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Mechanism explaining the 1968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ossible cause for the failure of forecasti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74520" y="3692520"/>
            <a:ext cx="5110200" cy="361620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2"/>
          <a:srcRect l="0" t="0" r="0" b="1429"/>
          <a:stretch/>
        </p:blipFill>
        <p:spPr>
          <a:xfrm>
            <a:off x="5041800" y="3692520"/>
            <a:ext cx="5038920" cy="361620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3"/>
          <a:stretch/>
        </p:blipFill>
        <p:spPr>
          <a:xfrm>
            <a:off x="6796080" y="950760"/>
            <a:ext cx="3284640" cy="232416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287280" y="1047600"/>
            <a:ext cx="6192720" cy="18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Two major warmings in the North Pacific Ocean in 1963 and 1968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616720" y="5940360"/>
            <a:ext cx="194472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a Silva et al. (1994) turbul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201080" y="6156360"/>
            <a:ext cx="57600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480000" y="3997440"/>
            <a:ext cx="1729080" cy="66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a Silva et al. (1994)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416720" y="4645080"/>
            <a:ext cx="144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8496360" y="5925960"/>
            <a:ext cx="136836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AFluxes turbul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9072720" y="5437080"/>
            <a:ext cx="21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384720" y="6013440"/>
            <a:ext cx="14396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RS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87280" y="3132000"/>
            <a:ext cx="4969080" cy="72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ea Surface Temperature  anomalies (155-235°E 10-45°N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184720" y="3132000"/>
            <a:ext cx="4896000" cy="72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pward surface heat fluxes anomalies         (155-235°E 10-45°N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848720" y="1835280"/>
            <a:ext cx="143964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155-235°E   10-45°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0" y="971640"/>
            <a:ext cx="986472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No links with the main modes of vari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182520" y="1619280"/>
            <a:ext cx="4498920" cy="318456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5148360" y="1619280"/>
            <a:ext cx="4500360" cy="318456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3"/>
          <a:srcRect l="0" t="0" r="0" b="9528"/>
          <a:stretch/>
        </p:blipFill>
        <p:spPr>
          <a:xfrm>
            <a:off x="2882880" y="4532400"/>
            <a:ext cx="4102200" cy="284796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7201080" y="5580000"/>
            <a:ext cx="252072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esrl.noaa.gov/psd/data/climateindice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19280" y="4932360"/>
            <a:ext cx="151272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onthly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1655640" y="3492360"/>
            <a:ext cx="360360" cy="1440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03280" y="6516720"/>
            <a:ext cx="208764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2-month running 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2232000" y="6011640"/>
            <a:ext cx="129528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906768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44360" y="2266920"/>
            <a:ext cx="9936360" cy="51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inks with well-known variability mod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cc3300"/>
                </a:solidFill>
                <a:latin typeface="Arial"/>
              </a:rPr>
              <a:t>Mechanism explaining the 1963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Mechanism explaining the 1968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ossible cause for the failure of forecasti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5688000" y="2700360"/>
            <a:ext cx="3673440" cy="485928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73080" y="2532240"/>
            <a:ext cx="5327640" cy="376848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>
            <a:off x="0" y="1116000"/>
            <a:ext cx="1008072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1963: 3-dimensional structure of the anoma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76360" y="2195640"/>
            <a:ext cx="36716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attern of ERSST anomalies (155-235°E 10-45°N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616720" y="2116080"/>
            <a:ext cx="4464000" cy="72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NEMOVAR temperature anomaly profile (180-205°E – 35-45°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392720" y="2556000"/>
            <a:ext cx="7189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°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335640" y="3419640"/>
            <a:ext cx="2174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335640" y="3564000"/>
            <a:ext cx="14436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6275520" y="3635280"/>
            <a:ext cx="144360" cy="216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727280" y="2987640"/>
            <a:ext cx="1297080" cy="72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04720" y="1657440"/>
            <a:ext cx="6264360" cy="595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Francisco J Doblas-Reyes :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The 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Hui Du :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Initial perturbations, sea 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Javier Gar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-Serrano :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AMO, African mons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Virginie Guemas :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Sea ice, North Pacific sk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abian Lienert :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regionalisation, PDO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elanie Davis :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climate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anila Volpi :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initialisation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uis Ricardo Rodrigues :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ENSO, statistical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ida Pi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extre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uhammad Asif :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EC-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riol Mula-Valls :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system administ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omingo Manubens :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autosubmit develo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44360" y="4538520"/>
            <a:ext cx="360360" cy="244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44360" y="3144960"/>
            <a:ext cx="360360" cy="2412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144360" y="2214720"/>
            <a:ext cx="360360" cy="2347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144360" y="3649680"/>
            <a:ext cx="360360" cy="243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144360" y="4078440"/>
            <a:ext cx="360360" cy="2253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144360" y="5016600"/>
            <a:ext cx="360360" cy="241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7"/>
          <a:stretch/>
        </p:blipFill>
        <p:spPr>
          <a:xfrm>
            <a:off x="144360" y="1778040"/>
            <a:ext cx="360360" cy="2412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8"/>
          <a:stretch/>
        </p:blipFill>
        <p:spPr>
          <a:xfrm>
            <a:off x="144360" y="2712960"/>
            <a:ext cx="360360" cy="2412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9"/>
          <a:stretch/>
        </p:blipFill>
        <p:spPr>
          <a:xfrm>
            <a:off x="144360" y="5473800"/>
            <a:ext cx="360360" cy="241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0"/>
          <a:stretch/>
        </p:blipFill>
        <p:spPr>
          <a:xfrm>
            <a:off x="144360" y="6458040"/>
            <a:ext cx="360360" cy="2412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1"/>
          <a:stretch/>
        </p:blipFill>
        <p:spPr>
          <a:xfrm>
            <a:off x="144360" y="6889680"/>
            <a:ext cx="360360" cy="2412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2"/>
          <a:stretch/>
        </p:blipFill>
        <p:spPr>
          <a:xfrm>
            <a:off x="144360" y="5978520"/>
            <a:ext cx="360360" cy="2397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16000" y="971640"/>
            <a:ext cx="9720000" cy="53748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Our focus : Seasonal to decadal prediction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624720" y="1979640"/>
            <a:ext cx="3311280" cy="20912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We share, on reques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tosub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ur decadal hindca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onthly sea ice rest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 diagnostic func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912000" y="4572000"/>
            <a:ext cx="3024000" cy="251928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We run 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arenostrum ( Spain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CMW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ECTOR ( Scotlan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indgren ( Sweden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ur local 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792000" y="1042920"/>
            <a:ext cx="799308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1963: advection of the anoma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144360" y="2844720"/>
            <a:ext cx="5256360" cy="371952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2"/>
          <a:srcRect l="0" t="0" r="2696" b="0"/>
          <a:stretch/>
        </p:blipFill>
        <p:spPr>
          <a:xfrm>
            <a:off x="5184720" y="2916360"/>
            <a:ext cx="4824360" cy="352872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/>
          <p:nvPr/>
        </p:nvSpPr>
        <p:spPr>
          <a:xfrm>
            <a:off x="576360" y="2484360"/>
            <a:ext cx="4032000" cy="72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Hoevmuller ERSST anomalies   ( 35°N-45°N latitude ba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545080" y="2548080"/>
            <a:ext cx="41752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NEMOVAR backward trajectories computed with ARI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184720" y="6156360"/>
            <a:ext cx="47512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RIANE          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 http://stockage.univ-brest.fr/~grima/Ariane/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848720" y="5148360"/>
            <a:ext cx="17269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pril 19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H="1" flipV="1">
            <a:off x="8353440" y="478764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904000" y="5364000"/>
            <a:ext cx="22334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November 1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H="1" flipV="1">
            <a:off x="5976720" y="5148360"/>
            <a:ext cx="431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392720" y="2825640"/>
            <a:ext cx="7189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°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863640" y="3564000"/>
            <a:ext cx="1873080" cy="201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0" y="1042920"/>
            <a:ext cx="1008072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1963: modulation of the amplitude by mix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144360" y="2844720"/>
            <a:ext cx="5256360" cy="371952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576360" y="2484360"/>
            <a:ext cx="4032000" cy="72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Hoevmuller ERSST anomalies   ( 35°N-45°N latitude ba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392720" y="2825640"/>
            <a:ext cx="7189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°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2"/>
          <a:srcRect l="0" t="0" r="5393" b="0"/>
          <a:stretch/>
        </p:blipFill>
        <p:spPr>
          <a:xfrm>
            <a:off x="4968720" y="2843280"/>
            <a:ext cx="5112000" cy="374472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/>
          <p:nvPr/>
        </p:nvSpPr>
        <p:spPr>
          <a:xfrm>
            <a:off x="5327640" y="2484360"/>
            <a:ext cx="4680000" cy="66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NEMOVAR climatological mixed layer depth ( 35°N-45°N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9433080" y="2843280"/>
            <a:ext cx="6476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863640" y="3564000"/>
            <a:ext cx="1873080" cy="201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906768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44360" y="2266920"/>
            <a:ext cx="9936360" cy="51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inks with well-known variability mod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Mechanism explaining the 1963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cc3300"/>
                </a:solidFill>
                <a:latin typeface="Arial"/>
              </a:rPr>
              <a:t>Mechanism explaining the 1968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ossible cause for the failure of forecasti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5686560" y="2701800"/>
            <a:ext cx="3674880" cy="485784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/>
          <p:cNvPicPr/>
          <p:nvPr/>
        </p:nvPicPr>
        <p:blipFill>
          <a:blip r:embed="rId2"/>
          <a:stretch/>
        </p:blipFill>
        <p:spPr>
          <a:xfrm>
            <a:off x="71280" y="2532240"/>
            <a:ext cx="5326200" cy="376704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0" y="1116000"/>
            <a:ext cx="1008072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1968: 3-dimensional structure of the anoma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76360" y="2195640"/>
            <a:ext cx="36716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attern of ERSST anomalies (155-235°E 10-45°N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392720" y="2556000"/>
            <a:ext cx="7189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°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16720" y="2116080"/>
            <a:ext cx="4464000" cy="72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NEMOVAR temperature anomaly profile (170-235°E – 10-35°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368360" y="3706920"/>
            <a:ext cx="3024360" cy="194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647640" y="1042920"/>
            <a:ext cx="878544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1968: upward transfer of the anoma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2982960" y="2627280"/>
            <a:ext cx="3674880" cy="485784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2808360" y="2116080"/>
            <a:ext cx="4464000" cy="72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NEMOVAR temperature anomaly profile (170-235°E – 10-45°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0" y="1042920"/>
            <a:ext cx="1008072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1968: amplification by the atmosphere for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504720" y="2987640"/>
            <a:ext cx="4248360" cy="300672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1008000" y="2411280"/>
            <a:ext cx="3384720" cy="72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Wind speed anomalies (170-235°E, 10-35°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009800" y="5075280"/>
            <a:ext cx="10080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FS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 flipV="1">
            <a:off x="1152360" y="4427280"/>
            <a:ext cx="144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673440" y="4932360"/>
            <a:ext cx="936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NC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4105440" y="4642920"/>
            <a:ext cx="28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5327640" y="2703600"/>
            <a:ext cx="3675240" cy="485784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/>
          <p:nvPr/>
        </p:nvSpPr>
        <p:spPr>
          <a:xfrm>
            <a:off x="5256360" y="2116080"/>
            <a:ext cx="4464000" cy="72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NEMOVAR temperature anomaly profile (170-235°E – 10-45°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906768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44360" y="2266920"/>
            <a:ext cx="9936360" cy="51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inks with well-known variability mod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Mechanism explaining the 1963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Mechanism explaining the 1968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cc3300"/>
                </a:solidFill>
                <a:latin typeface="Arial"/>
              </a:rPr>
              <a:t>Possible cause for the failure of forecasti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749"/>
              </a:spcBef>
              <a:buSzPct val="102805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1008000" y="971640"/>
            <a:ext cx="799308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Stratification in the Pacific Ocea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rcRect l="0" t="0" r="0" b="7146"/>
          <a:stretch/>
        </p:blipFill>
        <p:spPr>
          <a:xfrm>
            <a:off x="1062000" y="4511520"/>
            <a:ext cx="4321080" cy="304812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2"/>
          <a:srcRect l="0" t="0" r="0" b="7146"/>
          <a:stretch/>
        </p:blipFill>
        <p:spPr>
          <a:xfrm>
            <a:off x="5167440" y="4427640"/>
            <a:ext cx="4076640" cy="310680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3"/>
          <a:srcRect l="0" t="0" r="0" b="7146"/>
          <a:stretch/>
        </p:blipFill>
        <p:spPr>
          <a:xfrm>
            <a:off x="1063800" y="1798560"/>
            <a:ext cx="4319280" cy="3057480"/>
          </a:xfrm>
          <a:prstGeom prst="rect">
            <a:avLst/>
          </a:prstGeom>
          <a:ln w="0">
            <a:noFill/>
          </a:ln>
        </p:spPr>
      </p:pic>
      <p:pic>
        <p:nvPicPr>
          <p:cNvPr id="656" name="" descr=""/>
          <p:cNvPicPr/>
          <p:nvPr/>
        </p:nvPicPr>
        <p:blipFill>
          <a:blip r:embed="rId4"/>
          <a:srcRect l="0" t="0" r="0" b="7146"/>
          <a:stretch/>
        </p:blipFill>
        <p:spPr>
          <a:xfrm>
            <a:off x="5167440" y="1763640"/>
            <a:ext cx="4103640" cy="305928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 rot="16200000">
            <a:off x="-692280" y="3085920"/>
            <a:ext cx="27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NEMOVAR-COM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rot="16200000">
            <a:off x="-692280" y="5823000"/>
            <a:ext cx="27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ERFA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rot="5400000">
            <a:off x="7875720" y="5823000"/>
            <a:ext cx="27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FM-GEO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rot="5400000">
            <a:off x="7875720" y="3085920"/>
            <a:ext cx="27352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C-Earth 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457280" y="1692360"/>
            <a:ext cx="70390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MA mixed layer depth (density criteria) in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906768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31640" y="2266920"/>
            <a:ext cx="9433080" cy="46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orth Pacific region = region of lowest skill in near-term climate predictions ( 2- 5 year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ajor warm events around 1963 and 1968 missed by every forecasting systems = main cause for the low sk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1963 :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heat anomaly advected along the Kuroshio-Oyashio and confined to an increasingly thinnner mixed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1968 :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deep heat anomaly transferred toward the surface and then amplified by the atmospheric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Biases in the Pacific ocean stratification could be responsible for the failure of the forecas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03280" y="2484360"/>
            <a:ext cx="906768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44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584360" y="4572000"/>
            <a:ext cx="676908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vguemas@ic3.c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60000" y="1331640"/>
            <a:ext cx="9433080" cy="28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On the North Pacific reduced skill in near-term climate predictions of sea surface temper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0" y="4787640"/>
            <a:ext cx="1008072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ginie Gu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With the collaboration of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rancisco Doblas-Reyes, Fabian Lienert, Hui Du, Yves Souff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042560"/>
            <a:ext cx="906768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The climate prediction exercise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2484360"/>
            <a:ext cx="10080720" cy="33051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016000" y="6281640"/>
            <a:ext cx="70567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ig. 2 of Meehl et al. (2009, BA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1195560" y="5195880"/>
            <a:ext cx="3420360" cy="344160"/>
            <a:chOff x="1195560" y="5195880"/>
            <a:chExt cx="3420360" cy="344160"/>
          </a:xfrm>
        </p:grpSpPr>
        <p:sp>
          <p:nvSpPr>
            <p:cNvPr id="208" name=""/>
            <p:cNvSpPr/>
            <p:nvPr/>
          </p:nvSpPr>
          <p:spPr>
            <a:xfrm>
              <a:off x="1200240" y="5538600"/>
              <a:ext cx="341064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97000" y="5450040"/>
              <a:ext cx="341100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95560" y="5195880"/>
              <a:ext cx="341100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04920" y="5401440"/>
              <a:ext cx="3411000" cy="1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03120" y="5356800"/>
              <a:ext cx="3411000" cy="1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01680" y="5311080"/>
              <a:ext cx="341100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98440" y="5277960"/>
              <a:ext cx="3411000" cy="1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197000" y="5243400"/>
              <a:ext cx="3411000" cy="1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195560" y="5489280"/>
              <a:ext cx="341100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217520" y="5635800"/>
            <a:ext cx="3420720" cy="343800"/>
            <a:chOff x="1217520" y="5635800"/>
            <a:chExt cx="3420720" cy="343800"/>
          </a:xfrm>
        </p:grpSpPr>
        <p:sp>
          <p:nvSpPr>
            <p:cNvPr id="218" name=""/>
            <p:cNvSpPr/>
            <p:nvPr/>
          </p:nvSpPr>
          <p:spPr>
            <a:xfrm>
              <a:off x="1221840" y="5978520"/>
              <a:ext cx="341172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218600" y="5889960"/>
              <a:ext cx="341172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17520" y="5635800"/>
              <a:ext cx="341172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26880" y="5841000"/>
              <a:ext cx="341136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25080" y="5796720"/>
              <a:ext cx="341172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223640" y="5751000"/>
              <a:ext cx="341172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220400" y="5717520"/>
              <a:ext cx="341172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18600" y="5682960"/>
              <a:ext cx="341172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217520" y="5929200"/>
              <a:ext cx="341172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1193760" y="4730760"/>
            <a:ext cx="3420720" cy="344160"/>
            <a:chOff x="1193760" y="4730760"/>
            <a:chExt cx="3420720" cy="344160"/>
          </a:xfrm>
        </p:grpSpPr>
        <p:sp>
          <p:nvSpPr>
            <p:cNvPr id="228" name=""/>
            <p:cNvSpPr/>
            <p:nvPr/>
          </p:nvSpPr>
          <p:spPr>
            <a:xfrm>
              <a:off x="1198080" y="5073480"/>
              <a:ext cx="3411720" cy="1440"/>
            </a:xfrm>
            <a:prstGeom prst="line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194840" y="4984920"/>
              <a:ext cx="3411720" cy="1440"/>
            </a:xfrm>
            <a:prstGeom prst="line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93760" y="4730760"/>
              <a:ext cx="3411720" cy="1440"/>
            </a:xfrm>
            <a:prstGeom prst="line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202760" y="4935960"/>
              <a:ext cx="3411720" cy="1440"/>
            </a:xfrm>
            <a:prstGeom prst="line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201320" y="4891680"/>
              <a:ext cx="3411720" cy="1080"/>
            </a:xfrm>
            <a:prstGeom prst="line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199880" y="4845960"/>
              <a:ext cx="3411360" cy="1440"/>
            </a:xfrm>
            <a:prstGeom prst="line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196640" y="4812480"/>
              <a:ext cx="3411720" cy="1440"/>
            </a:xfrm>
            <a:prstGeom prst="line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94840" y="4777920"/>
              <a:ext cx="3411720" cy="1440"/>
            </a:xfrm>
            <a:prstGeom prst="line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93760" y="5024160"/>
              <a:ext cx="3411720" cy="1440"/>
            </a:xfrm>
            <a:prstGeom prst="line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1192320" y="4290840"/>
            <a:ext cx="3420720" cy="344160"/>
            <a:chOff x="1192320" y="4290840"/>
            <a:chExt cx="3420720" cy="344160"/>
          </a:xfrm>
        </p:grpSpPr>
        <p:sp>
          <p:nvSpPr>
            <p:cNvPr id="238" name=""/>
            <p:cNvSpPr/>
            <p:nvPr/>
          </p:nvSpPr>
          <p:spPr>
            <a:xfrm>
              <a:off x="1197000" y="4633920"/>
              <a:ext cx="3411360" cy="1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193760" y="4545360"/>
              <a:ext cx="3411360" cy="1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192320" y="4290840"/>
              <a:ext cx="3411360" cy="1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01680" y="4496040"/>
              <a:ext cx="3411360" cy="1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00240" y="4451760"/>
              <a:ext cx="341100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98440" y="4406040"/>
              <a:ext cx="3411360" cy="1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195200" y="4372920"/>
              <a:ext cx="3411360" cy="1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193760" y="4338000"/>
              <a:ext cx="3411360" cy="1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192320" y="4584600"/>
              <a:ext cx="3411360" cy="1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182600" y="3849840"/>
            <a:ext cx="3420720" cy="343800"/>
            <a:chOff x="1182600" y="3849840"/>
            <a:chExt cx="3420720" cy="343800"/>
          </a:xfrm>
        </p:grpSpPr>
        <p:sp>
          <p:nvSpPr>
            <p:cNvPr id="248" name=""/>
            <p:cNvSpPr/>
            <p:nvPr/>
          </p:nvSpPr>
          <p:spPr>
            <a:xfrm>
              <a:off x="1186920" y="4192560"/>
              <a:ext cx="3411720" cy="1080"/>
            </a:xfrm>
            <a:prstGeom prst="line">
              <a:avLst/>
            </a:prstGeom>
            <a:ln w="9360">
              <a:solidFill>
                <a:srgbClr val="80d5e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183680" y="4104000"/>
              <a:ext cx="3411720" cy="1080"/>
            </a:xfrm>
            <a:prstGeom prst="line">
              <a:avLst/>
            </a:prstGeom>
            <a:ln w="9360">
              <a:solidFill>
                <a:srgbClr val="80d5e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182600" y="3849840"/>
              <a:ext cx="3411720" cy="1080"/>
            </a:xfrm>
            <a:prstGeom prst="line">
              <a:avLst/>
            </a:prstGeom>
            <a:ln w="9360">
              <a:solidFill>
                <a:srgbClr val="80d5e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191600" y="4055040"/>
              <a:ext cx="3411720" cy="1080"/>
            </a:xfrm>
            <a:prstGeom prst="line">
              <a:avLst/>
            </a:prstGeom>
            <a:ln w="9360">
              <a:solidFill>
                <a:srgbClr val="80d5e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190160" y="4010760"/>
              <a:ext cx="3411720" cy="1080"/>
            </a:xfrm>
            <a:prstGeom prst="line">
              <a:avLst/>
            </a:prstGeom>
            <a:ln w="9360">
              <a:solidFill>
                <a:srgbClr val="80d5e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88720" y="3965040"/>
              <a:ext cx="3411720" cy="1080"/>
            </a:xfrm>
            <a:prstGeom prst="line">
              <a:avLst/>
            </a:prstGeom>
            <a:ln w="9360">
              <a:solidFill>
                <a:srgbClr val="80d5e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185480" y="3931560"/>
              <a:ext cx="3411720" cy="1440"/>
            </a:xfrm>
            <a:prstGeom prst="line">
              <a:avLst/>
            </a:prstGeom>
            <a:ln w="9360">
              <a:solidFill>
                <a:srgbClr val="80d5e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183680" y="3897000"/>
              <a:ext cx="3411720" cy="1080"/>
            </a:xfrm>
            <a:prstGeom prst="line">
              <a:avLst/>
            </a:prstGeom>
            <a:ln w="9360">
              <a:solidFill>
                <a:srgbClr val="80d5e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182600" y="4143240"/>
              <a:ext cx="3411720" cy="1080"/>
            </a:xfrm>
            <a:prstGeom prst="line">
              <a:avLst/>
            </a:prstGeom>
            <a:ln w="9360">
              <a:solidFill>
                <a:srgbClr val="80d5e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1170000" y="3421080"/>
            <a:ext cx="3420720" cy="344160"/>
            <a:chOff x="1170000" y="3421080"/>
            <a:chExt cx="3420720" cy="344160"/>
          </a:xfrm>
        </p:grpSpPr>
        <p:sp>
          <p:nvSpPr>
            <p:cNvPr id="258" name=""/>
            <p:cNvSpPr/>
            <p:nvPr/>
          </p:nvSpPr>
          <p:spPr>
            <a:xfrm>
              <a:off x="1174320" y="3764160"/>
              <a:ext cx="3411720" cy="1080"/>
            </a:xfrm>
            <a:prstGeom prst="line">
              <a:avLst/>
            </a:prstGeom>
            <a:ln w="9360">
              <a:solidFill>
                <a:srgbClr val="00e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171080" y="3675600"/>
              <a:ext cx="3411720" cy="1440"/>
            </a:xfrm>
            <a:prstGeom prst="line">
              <a:avLst/>
            </a:prstGeom>
            <a:ln w="9360">
              <a:solidFill>
                <a:srgbClr val="00e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170000" y="3421080"/>
              <a:ext cx="3411720" cy="1440"/>
            </a:xfrm>
            <a:prstGeom prst="line">
              <a:avLst/>
            </a:prstGeom>
            <a:ln w="9360">
              <a:solidFill>
                <a:srgbClr val="00e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179000" y="3626280"/>
              <a:ext cx="3411720" cy="1440"/>
            </a:xfrm>
            <a:prstGeom prst="line">
              <a:avLst/>
            </a:prstGeom>
            <a:ln w="9360">
              <a:solidFill>
                <a:srgbClr val="00e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177560" y="3582360"/>
              <a:ext cx="3411720" cy="1080"/>
            </a:xfrm>
            <a:prstGeom prst="line">
              <a:avLst/>
            </a:prstGeom>
            <a:ln w="9360">
              <a:solidFill>
                <a:srgbClr val="00e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175760" y="3536280"/>
              <a:ext cx="3411720" cy="1080"/>
            </a:xfrm>
            <a:prstGeom prst="line">
              <a:avLst/>
            </a:prstGeom>
            <a:ln w="9360">
              <a:solidFill>
                <a:srgbClr val="00e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72880" y="3503160"/>
              <a:ext cx="3411360" cy="1440"/>
            </a:xfrm>
            <a:prstGeom prst="line">
              <a:avLst/>
            </a:prstGeom>
            <a:ln w="9360">
              <a:solidFill>
                <a:srgbClr val="00e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171080" y="3468240"/>
              <a:ext cx="3411720" cy="1440"/>
            </a:xfrm>
            <a:prstGeom prst="line">
              <a:avLst/>
            </a:prstGeom>
            <a:ln w="9360">
              <a:solidFill>
                <a:srgbClr val="00e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170000" y="3714840"/>
              <a:ext cx="3411720" cy="1440"/>
            </a:xfrm>
            <a:prstGeom prst="line">
              <a:avLst/>
            </a:prstGeom>
            <a:ln w="9360">
              <a:solidFill>
                <a:srgbClr val="00e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961920" y="6383160"/>
            <a:ext cx="85917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41160" y="6478560"/>
            <a:ext cx="81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Md BT"/>
              </a:rPr>
              <a:t>Nov 60               Nov 65            Nov 70               Nov 75           Nov 80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1193760" y="6230520"/>
            <a:ext cx="180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970360" y="621792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4618080" y="622728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6407280" y="622584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8053560" y="623376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082520" y="3360600"/>
            <a:ext cx="214560" cy="268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920" y="1892160"/>
            <a:ext cx="97581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1280" indent="-341280" algn="ctr">
              <a:lnSpc>
                <a:spcPct val="135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model ensemble system with coupled initialized GC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4440" y="2660760"/>
            <a:ext cx="983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df103"/>
                </a:solidFill>
                <a:latin typeface="Verdana"/>
              </a:rPr>
              <a:t>Model 1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Model 2 </a:t>
            </a: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Model 3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00ff"/>
                </a:solidFill>
                <a:latin typeface="Verdana"/>
              </a:rPr>
              <a:t>Model 4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80d5e6"/>
                </a:solidFill>
                <a:latin typeface="Verdana"/>
              </a:rPr>
              <a:t>Model 5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e472"/>
                </a:solidFill>
                <a:latin typeface="Verdana"/>
              </a:rPr>
              <a:t>Model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41600" y="7077240"/>
            <a:ext cx="2025720" cy="434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Leadtime =     10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3532320" y="6875640"/>
            <a:ext cx="1076040" cy="164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152360" y="3274920"/>
            <a:ext cx="842508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496360" y="2681280"/>
            <a:ext cx="8636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Arial"/>
              </a:rPr>
              <a:t>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042560"/>
            <a:ext cx="906768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The climate prediction exercise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277920" y="1892160"/>
            <a:ext cx="97581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1280" indent="-341280" algn="ctr">
              <a:lnSpc>
                <a:spcPct val="135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model ensemble system with coupled initialized GC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44440" y="2660760"/>
            <a:ext cx="983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df103"/>
                </a:solidFill>
                <a:latin typeface="Verdana"/>
              </a:rPr>
              <a:t>Model 1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Model 2 </a:t>
            </a: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Model 3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00ff"/>
                </a:solidFill>
                <a:latin typeface="Verdana"/>
              </a:rPr>
              <a:t>Model 4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80d5e6"/>
                </a:solidFill>
                <a:latin typeface="Verdana"/>
              </a:rPr>
              <a:t>Model 5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e472"/>
                </a:solidFill>
                <a:latin typeface="Verdana"/>
              </a:rPr>
              <a:t>Model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61920" y="6383160"/>
            <a:ext cx="85917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1193760" y="6230520"/>
            <a:ext cx="180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2970360" y="621792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618080" y="622728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407280" y="622584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8053560" y="623376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016080" y="5694480"/>
            <a:ext cx="3420720" cy="344160"/>
            <a:chOff x="3016080" y="5694480"/>
            <a:chExt cx="3420720" cy="344160"/>
          </a:xfrm>
        </p:grpSpPr>
        <p:sp>
          <p:nvSpPr>
            <p:cNvPr id="291" name=""/>
            <p:cNvSpPr/>
            <p:nvPr/>
          </p:nvSpPr>
          <p:spPr>
            <a:xfrm>
              <a:off x="3020400" y="6037560"/>
              <a:ext cx="341136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7520" y="5949000"/>
              <a:ext cx="341100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16080" y="5694480"/>
              <a:ext cx="341136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25440" y="5899680"/>
              <a:ext cx="341136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23640" y="5855760"/>
              <a:ext cx="341136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022200" y="5809680"/>
              <a:ext cx="341136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018960" y="5776560"/>
              <a:ext cx="341136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017520" y="5741640"/>
              <a:ext cx="341100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016080" y="5988240"/>
              <a:ext cx="341136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879640" y="3419640"/>
            <a:ext cx="3534840" cy="2685960"/>
            <a:chOff x="2879640" y="3419640"/>
            <a:chExt cx="3534840" cy="2685960"/>
          </a:xfrm>
        </p:grpSpPr>
        <p:grpSp>
          <p:nvGrpSpPr>
            <p:cNvPr id="301" name=""/>
            <p:cNvGrpSpPr/>
            <p:nvPr/>
          </p:nvGrpSpPr>
          <p:grpSpPr>
            <a:xfrm>
              <a:off x="2993760" y="5253480"/>
              <a:ext cx="3420720" cy="343800"/>
              <a:chOff x="2993760" y="5253480"/>
              <a:chExt cx="3420720" cy="343800"/>
            </a:xfrm>
          </p:grpSpPr>
          <p:sp>
            <p:nvSpPr>
              <p:cNvPr id="302" name=""/>
              <p:cNvSpPr/>
              <p:nvPr/>
            </p:nvSpPr>
            <p:spPr>
              <a:xfrm>
                <a:off x="2998440" y="5595840"/>
                <a:ext cx="341136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995200" y="5507280"/>
                <a:ext cx="341136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993760" y="5253480"/>
                <a:ext cx="341136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003120" y="5458680"/>
                <a:ext cx="341136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001320" y="5414400"/>
                <a:ext cx="341136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999880" y="5368320"/>
                <a:ext cx="341136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996640" y="5335560"/>
                <a:ext cx="341136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995200" y="5301000"/>
                <a:ext cx="341136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993760" y="5546520"/>
                <a:ext cx="341136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2990880" y="4788360"/>
              <a:ext cx="3422160" cy="343800"/>
              <a:chOff x="2990880" y="4788360"/>
              <a:chExt cx="3422160" cy="343800"/>
            </a:xfrm>
          </p:grpSpPr>
          <p:sp>
            <p:nvSpPr>
              <p:cNvPr id="312" name=""/>
              <p:cNvSpPr/>
              <p:nvPr/>
            </p:nvSpPr>
            <p:spPr>
              <a:xfrm>
                <a:off x="2995200" y="5130720"/>
                <a:ext cx="3413160" cy="14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991960" y="5042160"/>
                <a:ext cx="3413160" cy="14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990880" y="4788360"/>
                <a:ext cx="3413160" cy="14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999880" y="4993200"/>
                <a:ext cx="3413160" cy="14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98440" y="4949280"/>
                <a:ext cx="3413160" cy="108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996640" y="4903200"/>
                <a:ext cx="3413520" cy="14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993400" y="4870080"/>
                <a:ext cx="3413520" cy="14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991960" y="4835520"/>
                <a:ext cx="3413160" cy="14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990880" y="5081400"/>
                <a:ext cx="3413160" cy="14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2989080" y="4349160"/>
              <a:ext cx="3422520" cy="343800"/>
              <a:chOff x="2989080" y="4349160"/>
              <a:chExt cx="3422520" cy="343800"/>
            </a:xfrm>
          </p:grpSpPr>
          <p:sp>
            <p:nvSpPr>
              <p:cNvPr id="322" name=""/>
              <p:cNvSpPr/>
              <p:nvPr/>
            </p:nvSpPr>
            <p:spPr>
              <a:xfrm>
                <a:off x="2993400" y="4691880"/>
                <a:ext cx="341352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990520" y="4603320"/>
                <a:ext cx="341316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989080" y="4349160"/>
                <a:ext cx="341352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998440" y="4554360"/>
                <a:ext cx="341316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996640" y="4509720"/>
                <a:ext cx="3413520" cy="14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995200" y="4464360"/>
                <a:ext cx="341316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991960" y="4430880"/>
                <a:ext cx="341316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990520" y="4396320"/>
                <a:ext cx="341316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989080" y="4642560"/>
                <a:ext cx="341352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2979720" y="3908160"/>
              <a:ext cx="3420720" cy="343800"/>
              <a:chOff x="2979720" y="3908160"/>
              <a:chExt cx="3420720" cy="343800"/>
            </a:xfrm>
          </p:grpSpPr>
          <p:sp>
            <p:nvSpPr>
              <p:cNvPr id="332" name=""/>
              <p:cNvSpPr/>
              <p:nvPr/>
            </p:nvSpPr>
            <p:spPr>
              <a:xfrm>
                <a:off x="2984040" y="4250880"/>
                <a:ext cx="3411720" cy="108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980800" y="4162320"/>
                <a:ext cx="3411720" cy="108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979720" y="3908160"/>
                <a:ext cx="3411720" cy="108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988720" y="4113360"/>
                <a:ext cx="3411720" cy="108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987280" y="4069080"/>
                <a:ext cx="3411720" cy="108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985480" y="4023360"/>
                <a:ext cx="3411720" cy="108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982600" y="3989880"/>
                <a:ext cx="3411360" cy="144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980800" y="3955320"/>
                <a:ext cx="3411720" cy="108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979720" y="4201560"/>
                <a:ext cx="3411720" cy="108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2966760" y="3479400"/>
              <a:ext cx="3423960" cy="343800"/>
              <a:chOff x="2966760" y="3479400"/>
              <a:chExt cx="3423960" cy="343800"/>
            </a:xfrm>
          </p:grpSpPr>
          <p:sp>
            <p:nvSpPr>
              <p:cNvPr id="342" name=""/>
              <p:cNvSpPr/>
              <p:nvPr/>
            </p:nvSpPr>
            <p:spPr>
              <a:xfrm>
                <a:off x="2971440" y="3822120"/>
                <a:ext cx="3412800" cy="108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968200" y="3733560"/>
                <a:ext cx="3412800" cy="144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966760" y="3479400"/>
                <a:ext cx="3413160" cy="144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976120" y="3684600"/>
                <a:ext cx="3414600" cy="144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974680" y="3640320"/>
                <a:ext cx="3412800" cy="108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972880" y="3594600"/>
                <a:ext cx="3414600" cy="108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69640" y="3561120"/>
                <a:ext cx="3413160" cy="144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968200" y="3526560"/>
                <a:ext cx="3412800" cy="144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966760" y="3772800"/>
                <a:ext cx="3413160" cy="144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1" name=""/>
            <p:cNvSpPr/>
            <p:nvPr/>
          </p:nvSpPr>
          <p:spPr>
            <a:xfrm>
              <a:off x="2879640" y="3419640"/>
              <a:ext cx="214200" cy="268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641160" y="6478560"/>
            <a:ext cx="81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Md BT"/>
              </a:rPr>
              <a:t>Nov 60               Nov 65            Nov 70               Nov 75           Nov 80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152360" y="3274920"/>
            <a:ext cx="842508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496360" y="2681280"/>
            <a:ext cx="8636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Arial"/>
              </a:rPr>
              <a:t>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541600" y="7077240"/>
            <a:ext cx="2025720" cy="434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Leadtime =      5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532320" y="6875640"/>
            <a:ext cx="1076040" cy="164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042560"/>
            <a:ext cx="906768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The climate prediction exercise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961920" y="6383160"/>
            <a:ext cx="85917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1193760" y="6230520"/>
            <a:ext cx="180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2970360" y="621792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4618080" y="622728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6407280" y="622584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8053560" y="623376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44440" y="2660760"/>
            <a:ext cx="983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df103"/>
                </a:solidFill>
                <a:latin typeface="Verdana"/>
              </a:rPr>
              <a:t>Model 1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Model 2 </a:t>
            </a: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Model 3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00ff"/>
                </a:solidFill>
                <a:latin typeface="Verdana"/>
              </a:rPr>
              <a:t>Model 4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80d5e6"/>
                </a:solidFill>
                <a:latin typeface="Verdana"/>
              </a:rPr>
              <a:t>Model 5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e472"/>
                </a:solidFill>
                <a:latin typeface="Verdana"/>
              </a:rPr>
              <a:t>Model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541600" y="7004160"/>
            <a:ext cx="2025720" cy="434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Leadtime =       2-5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3527280" y="6156360"/>
            <a:ext cx="50508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3016080" y="5694480"/>
            <a:ext cx="3420720" cy="344160"/>
            <a:chOff x="3016080" y="5694480"/>
            <a:chExt cx="3420720" cy="344160"/>
          </a:xfrm>
        </p:grpSpPr>
        <p:sp>
          <p:nvSpPr>
            <p:cNvPr id="368" name=""/>
            <p:cNvSpPr/>
            <p:nvPr/>
          </p:nvSpPr>
          <p:spPr>
            <a:xfrm>
              <a:off x="3020400" y="6037560"/>
              <a:ext cx="341136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017520" y="5949000"/>
              <a:ext cx="341100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016080" y="5694480"/>
              <a:ext cx="341136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025440" y="5899680"/>
              <a:ext cx="341136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23640" y="5855760"/>
              <a:ext cx="341136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022200" y="5809680"/>
              <a:ext cx="341136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018960" y="5776560"/>
              <a:ext cx="341136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17520" y="5741640"/>
              <a:ext cx="341100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016080" y="5988240"/>
              <a:ext cx="3411360" cy="1080"/>
            </a:xfrm>
            <a:prstGeom prst="line">
              <a:avLst/>
            </a:prstGeom>
            <a:ln w="9360">
              <a:solidFill>
                <a:srgbClr val="fdf1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2879640" y="3419640"/>
            <a:ext cx="3534840" cy="2685960"/>
            <a:chOff x="2879640" y="3419640"/>
            <a:chExt cx="3534840" cy="2685960"/>
          </a:xfrm>
        </p:grpSpPr>
        <p:grpSp>
          <p:nvGrpSpPr>
            <p:cNvPr id="378" name=""/>
            <p:cNvGrpSpPr/>
            <p:nvPr/>
          </p:nvGrpSpPr>
          <p:grpSpPr>
            <a:xfrm>
              <a:off x="2993760" y="5253480"/>
              <a:ext cx="3420720" cy="343800"/>
              <a:chOff x="2993760" y="5253480"/>
              <a:chExt cx="3420720" cy="343800"/>
            </a:xfrm>
          </p:grpSpPr>
          <p:sp>
            <p:nvSpPr>
              <p:cNvPr id="379" name=""/>
              <p:cNvSpPr/>
              <p:nvPr/>
            </p:nvSpPr>
            <p:spPr>
              <a:xfrm>
                <a:off x="2998440" y="5595840"/>
                <a:ext cx="341136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995200" y="5507280"/>
                <a:ext cx="341136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993760" y="5253480"/>
                <a:ext cx="341136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003120" y="5458680"/>
                <a:ext cx="341136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001320" y="5414400"/>
                <a:ext cx="341136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999880" y="5368320"/>
                <a:ext cx="341136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996640" y="5335560"/>
                <a:ext cx="341136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995200" y="5301000"/>
                <a:ext cx="341136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993760" y="5546520"/>
                <a:ext cx="341136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2990880" y="4788360"/>
              <a:ext cx="3422160" cy="343800"/>
              <a:chOff x="2990880" y="4788360"/>
              <a:chExt cx="3422160" cy="343800"/>
            </a:xfrm>
          </p:grpSpPr>
          <p:sp>
            <p:nvSpPr>
              <p:cNvPr id="389" name=""/>
              <p:cNvSpPr/>
              <p:nvPr/>
            </p:nvSpPr>
            <p:spPr>
              <a:xfrm>
                <a:off x="2995200" y="5130720"/>
                <a:ext cx="3413160" cy="14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991960" y="5042160"/>
                <a:ext cx="3413160" cy="14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990880" y="4788360"/>
                <a:ext cx="3413160" cy="14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999880" y="4993200"/>
                <a:ext cx="3413160" cy="14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998440" y="4949280"/>
                <a:ext cx="3413160" cy="108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996640" y="4903200"/>
                <a:ext cx="3413520" cy="14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993400" y="4870080"/>
                <a:ext cx="3413520" cy="14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991960" y="4835520"/>
                <a:ext cx="3413160" cy="14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990880" y="5081400"/>
                <a:ext cx="3413160" cy="144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2989080" y="4349160"/>
              <a:ext cx="3422520" cy="343800"/>
              <a:chOff x="2989080" y="4349160"/>
              <a:chExt cx="3422520" cy="343800"/>
            </a:xfrm>
          </p:grpSpPr>
          <p:sp>
            <p:nvSpPr>
              <p:cNvPr id="399" name=""/>
              <p:cNvSpPr/>
              <p:nvPr/>
            </p:nvSpPr>
            <p:spPr>
              <a:xfrm>
                <a:off x="2993400" y="4691880"/>
                <a:ext cx="341352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990520" y="4603320"/>
                <a:ext cx="341316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989080" y="4349160"/>
                <a:ext cx="341352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998440" y="4554360"/>
                <a:ext cx="341316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996640" y="4509720"/>
                <a:ext cx="3413520" cy="144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995200" y="4464360"/>
                <a:ext cx="341316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991960" y="4430880"/>
                <a:ext cx="341316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990520" y="4396320"/>
                <a:ext cx="341316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989080" y="4642560"/>
                <a:ext cx="341352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979720" y="3908160"/>
              <a:ext cx="3420720" cy="343800"/>
              <a:chOff x="2979720" y="3908160"/>
              <a:chExt cx="3420720" cy="343800"/>
            </a:xfrm>
          </p:grpSpPr>
          <p:sp>
            <p:nvSpPr>
              <p:cNvPr id="409" name=""/>
              <p:cNvSpPr/>
              <p:nvPr/>
            </p:nvSpPr>
            <p:spPr>
              <a:xfrm>
                <a:off x="2984040" y="4250880"/>
                <a:ext cx="3411720" cy="108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980800" y="4162320"/>
                <a:ext cx="3411720" cy="108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979720" y="3908160"/>
                <a:ext cx="3411720" cy="108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988720" y="4113360"/>
                <a:ext cx="3411720" cy="108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987280" y="4069080"/>
                <a:ext cx="3411720" cy="108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985480" y="4023360"/>
                <a:ext cx="3411720" cy="108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982600" y="3989880"/>
                <a:ext cx="3411360" cy="144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980800" y="3955320"/>
                <a:ext cx="3411720" cy="108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979720" y="4201560"/>
                <a:ext cx="3411720" cy="1080"/>
              </a:xfrm>
              <a:prstGeom prst="line">
                <a:avLst/>
              </a:prstGeom>
              <a:ln w="9360">
                <a:solidFill>
                  <a:srgbClr val="80d5e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2966760" y="3479400"/>
              <a:ext cx="3423960" cy="343800"/>
              <a:chOff x="2966760" y="3479400"/>
              <a:chExt cx="3423960" cy="343800"/>
            </a:xfrm>
          </p:grpSpPr>
          <p:sp>
            <p:nvSpPr>
              <p:cNvPr id="419" name=""/>
              <p:cNvSpPr/>
              <p:nvPr/>
            </p:nvSpPr>
            <p:spPr>
              <a:xfrm>
                <a:off x="2971440" y="3822120"/>
                <a:ext cx="3412800" cy="108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968200" y="3733560"/>
                <a:ext cx="3412800" cy="144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966760" y="3479400"/>
                <a:ext cx="3413160" cy="144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976120" y="3684600"/>
                <a:ext cx="3414600" cy="144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974680" y="3640320"/>
                <a:ext cx="3412800" cy="108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972880" y="3594600"/>
                <a:ext cx="3414600" cy="108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969640" y="3561120"/>
                <a:ext cx="3413160" cy="144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968200" y="3526560"/>
                <a:ext cx="3412800" cy="144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966760" y="3772800"/>
                <a:ext cx="3413160" cy="1440"/>
              </a:xfrm>
              <a:prstGeom prst="line">
                <a:avLst/>
              </a:prstGeom>
              <a:ln w="9360">
                <a:solidFill>
                  <a:srgbClr val="00e47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>
              <a:off x="2879640" y="3419640"/>
              <a:ext cx="214200" cy="268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8496360" y="2681280"/>
            <a:ext cx="8636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Arial"/>
              </a:rPr>
              <a:t>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152360" y="3274920"/>
            <a:ext cx="842508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527280" y="3132000"/>
            <a:ext cx="1152720" cy="2973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77920" y="1892160"/>
            <a:ext cx="97581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1280" indent="-341280" algn="ctr">
              <a:lnSpc>
                <a:spcPct val="135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model ensemble system with coupled initialized GC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41160" y="6478560"/>
            <a:ext cx="81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Md BT"/>
              </a:rPr>
              <a:t>Nov 60               Nov 65            Nov 70               Nov 75           Nov 80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042560"/>
            <a:ext cx="906768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The climate prediction exercise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961920" y="6383160"/>
            <a:ext cx="85917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1193760" y="6230520"/>
            <a:ext cx="180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2970360" y="621792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4618080" y="622728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6407280" y="622584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8053560" y="623376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44440" y="2660760"/>
            <a:ext cx="983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df103"/>
                </a:solidFill>
                <a:latin typeface="Verdana"/>
              </a:rPr>
              <a:t>Model 1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Model 2 </a:t>
            </a: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Model 3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00ff"/>
                </a:solidFill>
                <a:latin typeface="Verdana"/>
              </a:rPr>
              <a:t>Model 4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80d5e6"/>
                </a:solidFill>
                <a:latin typeface="Verdana"/>
              </a:rPr>
              <a:t>Model 5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e472"/>
                </a:solidFill>
                <a:latin typeface="Verdana"/>
              </a:rPr>
              <a:t>Model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41600" y="7004160"/>
            <a:ext cx="2025720" cy="434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Leadtime =       2-5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8496360" y="2681280"/>
            <a:ext cx="8636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Arial"/>
              </a:rPr>
              <a:t>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77920" y="1892160"/>
            <a:ext cx="97581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1280" indent="-341280" algn="ctr">
              <a:lnSpc>
                <a:spcPct val="135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model ensemble system with coupled initialized GC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41160" y="6478560"/>
            <a:ext cx="81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Md BT"/>
              </a:rPr>
              <a:t>Nov 60               Nov 65            Nov 70               Nov 75           Nov 80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032360" y="4881600"/>
            <a:ext cx="144360" cy="142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032360" y="5315040"/>
            <a:ext cx="144360" cy="142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032360" y="5745240"/>
            <a:ext cx="144360" cy="142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032360" y="4449600"/>
            <a:ext cx="144360" cy="142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032360" y="4016520"/>
            <a:ext cx="144360" cy="1425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032360" y="3584520"/>
            <a:ext cx="144360" cy="142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032360" y="3203640"/>
            <a:ext cx="144360" cy="142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042560"/>
            <a:ext cx="906768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The climate prediction exercise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961920" y="6383160"/>
            <a:ext cx="85917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1193760" y="6230520"/>
            <a:ext cx="180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2970360" y="621792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4618080" y="622728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6407280" y="622584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8053560" y="6233760"/>
            <a:ext cx="1440" cy="17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44440" y="2660760"/>
            <a:ext cx="983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df103"/>
                </a:solidFill>
                <a:latin typeface="Verdana"/>
              </a:rPr>
              <a:t>Model 1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Model 2 </a:t>
            </a: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Model 3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00ff"/>
                </a:solidFill>
                <a:latin typeface="Verdana"/>
              </a:rPr>
              <a:t>Model 4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80d5e6"/>
                </a:solidFill>
                <a:latin typeface="Verdana"/>
              </a:rPr>
              <a:t>Model 5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e472"/>
                </a:solidFill>
                <a:latin typeface="Verdana"/>
              </a:rPr>
              <a:t>Model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41600" y="7004160"/>
            <a:ext cx="2025720" cy="434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Leadtime =       2-5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496360" y="2681280"/>
            <a:ext cx="8636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Arial"/>
              </a:rPr>
              <a:t>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77920" y="1892160"/>
            <a:ext cx="97581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1280" indent="-341280" algn="ctr">
              <a:lnSpc>
                <a:spcPct val="135000"/>
              </a:lnSpc>
              <a:spcAft>
                <a:spcPts val="1426"/>
              </a:spcAft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model ensemble system with coupled initialized GC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41160" y="6478560"/>
            <a:ext cx="81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Md BT"/>
              </a:rPr>
              <a:t>Nov 60               Nov 65            Nov 70               Nov 75           Nov 80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032360" y="4881600"/>
            <a:ext cx="144360" cy="142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032360" y="5315040"/>
            <a:ext cx="144360" cy="142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032360" y="5745240"/>
            <a:ext cx="144360" cy="142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032360" y="4449600"/>
            <a:ext cx="144360" cy="142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032360" y="4016520"/>
            <a:ext cx="144360" cy="1425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032360" y="3584520"/>
            <a:ext cx="144360" cy="142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032360" y="3203640"/>
            <a:ext cx="144360" cy="142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303640" y="4883040"/>
            <a:ext cx="144360" cy="142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303640" y="5316480"/>
            <a:ext cx="144360" cy="142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303640" y="5746680"/>
            <a:ext cx="144360" cy="142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303640" y="4451400"/>
            <a:ext cx="144360" cy="142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303640" y="4017960"/>
            <a:ext cx="144360" cy="1429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303640" y="3586320"/>
            <a:ext cx="144360" cy="142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303640" y="3205080"/>
            <a:ext cx="144360" cy="142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59280" y="4881600"/>
            <a:ext cx="144720" cy="142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759280" y="5315040"/>
            <a:ext cx="144720" cy="142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759280" y="5745240"/>
            <a:ext cx="144720" cy="142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759280" y="4449600"/>
            <a:ext cx="144720" cy="142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759280" y="4016520"/>
            <a:ext cx="144720" cy="1425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759280" y="3584520"/>
            <a:ext cx="144720" cy="142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759280" y="3203640"/>
            <a:ext cx="144720" cy="142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416720" y="4881600"/>
            <a:ext cx="144720" cy="142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16720" y="5315040"/>
            <a:ext cx="144720" cy="142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416720" y="5745240"/>
            <a:ext cx="144720" cy="142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416720" y="4449600"/>
            <a:ext cx="144720" cy="142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416720" y="4016520"/>
            <a:ext cx="144720" cy="1425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416720" y="3584520"/>
            <a:ext cx="144720" cy="142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416720" y="3203640"/>
            <a:ext cx="144720" cy="142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9072720" y="4881600"/>
            <a:ext cx="144360" cy="142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9072720" y="5315040"/>
            <a:ext cx="144360" cy="142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9072720" y="5745240"/>
            <a:ext cx="144360" cy="142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9072720" y="4449600"/>
            <a:ext cx="144360" cy="142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9072720" y="4016520"/>
            <a:ext cx="144360" cy="1425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072720" y="3584520"/>
            <a:ext cx="144360" cy="142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9072720" y="3203640"/>
            <a:ext cx="144360" cy="142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1042560"/>
            <a:ext cx="906768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The climate prediction exercise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ice</dc:creator>
  <dc:description/>
  <dc:language>en-US</dc:language>
  <cp:lastModifiedBy>vguemas</cp:lastModifiedBy>
  <dcterms:modified xsi:type="dcterms:W3CDTF">2012-01-08T21:59:42Z</dcterms:modified>
  <cp:revision>157</cp:revision>
  <dc:subject/>
  <dc:title>Diapositiva 1</dc:title>
</cp:coreProperties>
</file>